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DEC7A-CB03-479F-BE14-AD33B0F0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7B82B-B8F3-43E3-AC92-812E1DE3B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3D47E-AB8E-4D59-B788-55D14104C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99176-59D4-480A-8B3C-2F1EAF96F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CD597-5BF4-4D28-B81D-234A8E778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AB0EA-A7A1-4143-8E0B-4423338E5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669BD-EB9D-4E59-BA23-F79AFF315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D45A-E916-4295-BC50-377695DAD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2E950-1C1E-41FC-88EE-4DE832EDD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F51CF-930E-4FAD-B88B-5226BEE07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4B48A-6DAE-4B10-8724-F3A1A72EC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B1D7-5998-432C-B37B-745FB4F1D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5F9C-3DA4-4490-B1AF-7191B0E5D7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362400" y="3273480"/>
            <a:ext cx="241920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c126b"/>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0:58:17Z</dcterms:modified>
  <cp:revision>44</cp:revision>
  <dc:subject/>
  <dc:title>SALARIUL</dc:title>
</cp:coreProperties>
</file>